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188-041F-411F-9AEC-8D8B2F73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AD2-6ECB-44B5-88C4-E117BDB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66A-E1CF-435C-8130-ABD095B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BBB-02EA-4504-B04E-B924CC5D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84F5-1622-4E71-82C4-A9DBED99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A45A-0B32-4BD1-92D5-A1684CD1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D232-A497-4C3F-9355-FDD7CB3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FE9-5A4F-4EFB-BFB4-9FF1F67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4B8-57F8-44F1-8E7F-FB82D30E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31E2-A287-4587-98F5-8A6E6625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51F-163C-4163-B4CF-93B89C4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40C-F7BD-4E0F-8181-28AACBEE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125D-3AA9-4A78-AB41-128612E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D87-4B21-4218-9BEF-0A35472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0FB-9BE8-4A6D-9FAF-49C186C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C547-E446-4411-B72C-0A113827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771-9140-4337-B370-20ECA47F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0CAF-98B6-4769-8EB8-2122489F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63AB-9239-44F7-9E62-FAAEBCA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99B8-7C12-4349-98E0-8DF48D00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DE33-103C-4F58-BE44-D6C4627B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FB18-255C-4722-8300-68AA983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663-CEE0-4DE9-9E0C-536BBA4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E75F-F0DD-45B2-BD0B-7E8FB920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D3EF-E265-4F0E-A17B-CCCD611E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6F9A-F692-455C-B37F-0A91B7F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7DC5-AAB1-4195-B2D1-CEAD71A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4EBF-8AD3-4B23-BC95-00FE7C4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05AA-F4B8-4DB7-AC6C-53AA61AE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C5C7-6B85-4768-8E6B-E5B77B6C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5FA4-0C63-4F61-BFAA-43758AF6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4B78-E4EA-43B5-B72E-AC86ADCD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F448-8642-44B8-A825-E0A7D5E5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3D8-BBA3-4C6C-91E8-D8FAF8D6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0156-2E5C-49F8-9D46-3B0878D9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C8F5-A283-4933-B741-DCFD029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CBE2-31AE-4951-9A4B-84D39F5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4406-057A-4B6B-A473-F3D9B8B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66A1-9890-44CC-9021-FBDEA7E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88B86-A2E6-424E-B369-4F29C377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CD8F-2657-4961-9445-0123EC0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8673-05E3-47CE-9A22-C7B396C0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0955-3059-4ACA-988E-995F63C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602-8EAB-4FC6-977E-E288048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7EF-C93C-4808-92BA-B91C486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2AA-0EB8-445C-91E4-CE0A23F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293-8DD6-4872-BDFC-F520B2D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894-30B2-4978-A913-310366D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AF0-5D14-4A80-8A5E-CBBBDC4F64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D7F9-2E78-480F-9067-760648EE770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3E3-CCAF-4E7C-962A-FD7659327E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48AC-2F60-405C-BC72-0EC8FA77E8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RUSSIA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’</a:t>
            </a:r>
            <a:r>
              <a:rPr b="0" lang="en-US" sz="5600" spc="-1" strike="noStrike">
                <a:solidFill>
                  <a:srgbClr val="04617b"/>
                </a:solidFill>
                <a:latin typeface="Comic Sans MS"/>
              </a:rPr>
              <a:t>S  ECONOM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y Allessandra Toscanini, Darren Chau, and Skerdilaid Hoti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dd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4240116"/>
          <p:cNvPicPr/>
          <p:nvPr/>
        </p:nvPicPr>
        <p:blipFill>
          <a:blip r:embed="rId1"/>
          <a:stretch/>
        </p:blipFill>
        <p:spPr>
          <a:xfrm>
            <a:off x="3124080" y="4114800"/>
            <a:ext cx="320040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5486400" y="266688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1607potatoes"/>
          <p:cNvPicPr/>
          <p:nvPr/>
        </p:nvPicPr>
        <p:blipFill>
          <a:blip r:embed="rId3"/>
          <a:stretch/>
        </p:blipFill>
        <p:spPr>
          <a:xfrm>
            <a:off x="2971800" y="1143000"/>
            <a:ext cx="3200400" cy="2066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onstantia"/>
              </a:rPr>
              <a:t>FOOD PRODUCED IN RUSS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51460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tato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gar be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a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stockphotopro_36014208UKD_no_title"/>
          <p:cNvPicPr/>
          <p:nvPr/>
        </p:nvPicPr>
        <p:blipFill>
          <a:blip r:embed="rId1"/>
          <a:stretch/>
        </p:blipFill>
        <p:spPr>
          <a:xfrm>
            <a:off x="5562720" y="1752480"/>
            <a:ext cx="327636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onstantia"/>
              </a:rPr>
              <a:t>Manufacturing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t. Petersburg is a shipbuilding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Most manufacturing cente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re in western Russ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Factories focus on heavy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ome factories switched to light indu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Factories in St. Petersburg ma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light machinery, textiles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scientific and medical equi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04960" y="1904760"/>
            <a:ext cx="5111640" cy="43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208400" y="2209680"/>
            <a:ext cx="3411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MS900074858[1].wav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cool\AppData\Local\Microsoft\Windows\Temporary Internet Files\Content.IE5\2IUTAM3Y\MP900390146[1].jpg"/>
          <p:cNvPicPr/>
          <p:nvPr/>
        </p:nvPicPr>
        <p:blipFill>
          <a:blip r:embed="rId2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47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 Volga and Urals Reg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olg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ries almost one-half of Russia’s river traffi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  provides water for irrigation and for hydroelectric pow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home of Russia’s most productive farmland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a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iners mine bauxite for aluminum, copper, gold, lead and nick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energy resources such as coal, oil, and natural g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ussia port c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ssia has 5 important ports c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hard for  the port cities to transport goods because  the water in all the other port cities are froze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, and St. Petersburg. Murmansk, Vladivostok, and Astrakh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iningrad has eliminated all taxes on shipping goo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. Petersburg makes light machinery, textiles, scientific, and medical equip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le the other port cities trade bring goods to Russi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12" descr="news-StPetersburgAnnounced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682560" y="927000"/>
            <a:ext cx="7864560" cy="2511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i7 860</cp:lastModifiedBy>
  <dcterms:modified xsi:type="dcterms:W3CDTF">2010-12-20T21:42:32Z</dcterms:modified>
  <cp:revision>26</cp:revision>
  <dc:subject/>
  <dc:title>Economy</dc:title>
</cp:coreProperties>
</file>